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CC0C-FE95-4FEC-8C91-394089A4D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5358-7F7E-48F1-A50A-29A7845F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C668-27E0-48A5-97CB-08C4948AD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B78E-ADFF-4FD6-8BD2-A88BB9AF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C1E9-B688-4176-9121-7D126F8C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A2C3-2C32-4D41-B4E3-795B16EA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3628-01D9-4CB8-8DCD-2C8AC9E3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FEA5-DC73-432D-AD73-28D7DF65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931C-1EBB-470B-A446-46D6E162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4974-4D6A-4C1B-859F-D77EDA9A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118C-6B71-4441-B11E-89D68B19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29A7-7419-482F-A740-6B582E94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1681-5FE3-4A30-AB9F-CE28322AAF60}" type="slidenum">
              <a:rPr b="0" lang="de-DE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Didaktikhilfe.ht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edienwerkstatt.de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63640" y="2852640"/>
            <a:ext cx="5524560" cy="1233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Was ist neu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1928880" cy="1672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95640" y="5300640"/>
            <a:ext cx="426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t: Matthias Hansc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A Ful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84360" y="4508640"/>
            <a:ext cx="237636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Wahrnehmung und Logik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286000"/>
            <a:ext cx="77724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- Pushy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- Pushy-Level-Editor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- Pushy Bros.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- Duo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- Paare suchen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- Glockenspiel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- Trax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- Gummiball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- Nachbarn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- Muster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- Nimmo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- Genesis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- Skip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- Spirala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- Abstrakta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- Einzingeln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- Viererdreh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733920" y="23623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Sachunterricht und Wisse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2514600"/>
            <a:ext cx="76201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ufgaben-Kart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Zuordnungskart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net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86200" y="2286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Englisch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819520"/>
            <a:ext cx="7696080" cy="18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ufgaben-Kart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Zuordnungskart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okabeln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809880" y="24382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Allgemeines zur Lernwerkstat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eringe technische Anforderunge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in Programm für alle Klassen und (prinzipiell auch) alle Fäch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le Ergebnisse, Fortschritte und Produkte der Schüler werden gespeichert (Konten), oft Differenzierung innerhalb der Aufgabe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ilfsmittel wie Zahlenstrahl oder Wörterbuch sowie Hinweise zur Lokalisierung von Fehlern werden den Schülern bereitgestell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rmöglicht ideal den Einstieg in die Arbeit mit dem PC für Schüler und Grundschullehrer (Übersichtlichkeit, intuitives Erproben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ptimaler Einsatz in Wochenplanarbeit, ob in Medienecken oder PC-Räume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s Landeslizenz seit 2003 für alle Grund- und Förderschullehrkräfte in Hessen / Seit 2005 in Vers. 6.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Das ist NEU!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844640"/>
            <a:ext cx="843912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Erweiterung von ca. 70 auf mehr als </a:t>
            </a: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100 verschiedene Übungsformate</a:t>
            </a: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 zu den Kernbereichen des Lernens in GS und Fö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90440" indent="-190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Verbesserung / Erweiterung vieler Aufgabentype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90440" indent="-190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Arbeitsbereiche Englisch und Sachkunde/Wisse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90440" indent="-190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Sichere, gelenkte Internetanbindung/ freier Zugriff auf Datenbank mit Themenbereiche des Sachunterrich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90440" indent="-190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Einbindung einer </a:t>
            </a: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synthetischen Sprachausgabe</a:t>
            </a: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90440" indent="-190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Unterrichtspraktische Verbesserungen für Lehrkräfte (z.B. Kopplung v. Lernwörterübungen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90440" indent="-190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Arbeitsblatt – Snapp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90440" indent="-190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Bessere und schnellere Netzwerkfunk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90440" indent="-190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Umfassender Online-Support (weitere Übungen, didaktische Hilfen, </a:t>
            </a:r>
            <a:r>
              <a:rPr b="0" lang="de-DE" sz="2400" spc="-1" strike="noStrike" u="sng">
                <a:solidFill>
                  <a:srgbClr val="ccccff"/>
                </a:solidFill>
                <a:uFillTx/>
                <a:latin typeface="Arial Narrow"/>
                <a:hlinkClick r:id="rId1"/>
              </a:rPr>
              <a:t>Material zur Einführung</a:t>
            </a: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, zum Wochenplan etc.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Das bietet die Lernwerkstatt 6 ...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hr als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0 verschiedene Übungsformat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zu den Kernbereichen des Lernen in der Grundschule, Förderschule und Orientierungsstuf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themati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prache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chunterricht (Neu!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glisch (Neu!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gik und Wahrnehmu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62520" y="2971800"/>
            <a:ext cx="4446360" cy="333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Lehrkraftmodus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m Lehrkraftmodus kann das Programm an die eigenen Bedürfnisse angepasst werden ..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legen einer neuen Klasse und der Kinderkonte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rstellen neuer Übungsformate bzw. deren Anpassung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rstellen von eigenen Lernwörterliste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insehen der Lernstandsprotokolle der Kind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ktivierung / Deaktivierung bestimmter Übungen für das einzelne Kin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43800" y="2209680"/>
            <a:ext cx="1093680" cy="14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Differenzierung und Hilfestellu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swahl geeigneter Übungen durch Lehrkraft im Lehrkraftmodu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Übungen sind oftmals bis zu 4fach differenziert in Bezug auf Komplexität und Zahlenraum – Auswahl durch Kin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brufbare Hilfsmittel, wie Zahlenstahl, Hunderterfeld, Anlauttabelle, Wörterbuch usw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ückmeldung zur Richtigkeit des Ergebnisses – samt Hinweise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istische Auswertung der Ergebnisse durch das Program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eitere Übungsdateien im Internet auf: 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 Narrow"/>
                <a:hlinkClick r:id="rId1"/>
              </a:rPr>
              <a:t>http://www.medienwerkstatt.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Die Übungen im Einzelnen ...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411480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Mathematik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1905120"/>
            <a:ext cx="792504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Zahlenmauer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Zahlenschlag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Zahlenhäuse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Zauberdreieck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Rechendreieck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Abräum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Einmaleins-Züg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Kopfrechnen Plus/Minus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Kopfrechnen Mal/Geteilt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Kopfrechnen Abakus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Größer – Kleiner – Gleich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Schriftliche Addit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Schriftliche Subtrakt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Schriftl. Multiplikat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Schriftliche Divis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Gewicht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Größen umwandel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Gel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Uh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Gitternetz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Würfelgebäud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Spiegel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Geobrett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Aufgaben-Kart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657600" y="2209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Sprach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905120"/>
            <a:ext cx="769608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Anlauttabelle 1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Anlauttabelle 2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Anlaute hör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Anlautwörte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Buchstaben unterscheid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Alphabet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Zuordn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Wörter verwandel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Lernwörter (GWS)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Suchsel (GWS)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Buchstabensalat (GWS)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Wörter sortieren (GWS)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Artikel (GWS)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Geheimschrift (GWS)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Blitzlesen (GWS)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Wörterbuch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Aufgaben-Kart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Zuordnungskart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Textübung 1 (Text abschreiben)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Textübung 2 (Wörter suchen)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Textübung 3 (Wörter einsetzen)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Textübung 4 (Einzel-Lücken)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Textübung 5 (Text-Diktat)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Schreiben – Malen – Druck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- E-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886200" y="25146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19:20:43Z</dcterms:created>
  <dc:creator>Georg Fellner</dc:creator>
  <dc:description/>
  <dc:language>en-US</dc:language>
  <cp:lastModifiedBy>TM</cp:lastModifiedBy>
  <dcterms:modified xsi:type="dcterms:W3CDTF">2005-06-24T10:24:23Z</dcterms:modified>
  <cp:revision>9</cp:revision>
  <dc:subject/>
  <dc:title>Workshop zur Lernsoftware</dc:title>
</cp:coreProperties>
</file>